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254-90C0-461E-816E-268BDEFE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849-C215-409C-9D22-C32D7209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76C-EBE6-4E56-83F5-86F7A8E9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B79-005E-4AC9-BC0A-3F26F670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892-4826-4266-A1B7-118DF409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15E-0E2D-4773-BF71-0B75580F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C91-5903-41AD-B6DC-8641528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03A-3AE3-44FC-8998-C1A53D25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FA2-04A2-4463-B8AE-EF8646F4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B97-DE7B-4B6A-A60D-64CD843A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8F7-FAD8-407C-9407-38E02FD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EEB-E972-478B-9B54-7EB4DDE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A123-8FB1-4494-9AC7-ED7B114C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icturesof.net/pages/090817-142682-877009.html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a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Outline of A Heart With Doves - Royalty Free Clipart Picture"/>
          <p:cNvPicPr/>
          <p:nvPr/>
        </p:nvPicPr>
        <p:blipFill>
          <a:blip r:embed="rId1"/>
          <a:stretch/>
        </p:blipFill>
        <p:spPr>
          <a:xfrm>
            <a:off x="3143160" y="2214720"/>
            <a:ext cx="28576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is not merely a dist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 that we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artin Luther K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 Dove With an Olive Branch - Royalty Free Clipart Picture"/>
          <p:cNvPicPr/>
          <p:nvPr/>
        </p:nvPicPr>
        <p:blipFill>
          <a:blip r:embed="rId1"/>
          <a:stretch/>
        </p:blipFill>
        <p:spPr>
          <a:xfrm>
            <a:off x="1447920" y="4038480"/>
            <a:ext cx="2857320" cy="134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 Dove In Flight - Royalty Free Clipart Picture"/>
          <p:cNvPicPr/>
          <p:nvPr/>
        </p:nvPicPr>
        <p:blipFill>
          <a:blip r:embed="rId2"/>
          <a:stretch/>
        </p:blipFill>
        <p:spPr>
          <a:xfrm>
            <a:off x="5562720" y="2209680"/>
            <a:ext cx="285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ippy Holding a Peace Sign - Royalty Free Clipart Picture"/>
          <p:cNvPicPr/>
          <p:nvPr/>
        </p:nvPicPr>
        <p:blipFill>
          <a:blip r:embed="rId1"/>
          <a:stretch/>
        </p:blipFill>
        <p:spPr>
          <a:xfrm>
            <a:off x="3124080" y="2895480"/>
            <a:ext cx="248616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is the word of love and so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447920"/>
            <a:ext cx="6172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way to peace, peace is the way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J. Mu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ve each other and love will come ba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An Aged Hippie with a Guitar Standing In Front of a Peace Sign Royalty Free Clipart Picture"/>
          <p:cNvPicPr/>
          <p:nvPr/>
        </p:nvPicPr>
        <p:blipFill>
          <a:blip r:embed="rId1"/>
          <a:stretch/>
        </p:blipFill>
        <p:spPr>
          <a:xfrm>
            <a:off x="304920" y="19810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Peace Activist From Another Planet - Royalty Free Clipart Picture"/>
          <p:cNvPicPr/>
          <p:nvPr/>
        </p:nvPicPr>
        <p:blipFill>
          <a:blip r:embed="rId2"/>
          <a:stretch/>
        </p:blipFill>
        <p:spPr>
          <a:xfrm>
            <a:off x="5486400" y="2133720"/>
            <a:ext cx="2276640" cy="285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2240" y="4800600"/>
            <a:ext cx="831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not have peace if we are only concerned with pe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is not an ac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logical outcome of a certain way of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want to attack war, we have to attack that way of lif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 don’t hate and hate go’s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White Dove With A Red Heart - Royalty Free Clipart Picture"/>
          <p:cNvPicPr/>
          <p:nvPr/>
        </p:nvPicPr>
        <p:blipFill>
          <a:blip r:embed="rId1"/>
          <a:stretch/>
        </p:blipFill>
        <p:spPr>
          <a:xfrm>
            <a:off x="3143160" y="2147760"/>
            <a:ext cx="2857680" cy="256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45280" y="989280"/>
            <a:ext cx="79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is the healing and elevating influence of the worl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oodrow Wil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876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 is a peaceful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A Dove With an Olive Branch - Royalty Free Clipart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8280" y="2952720"/>
            <a:ext cx="84744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A Dove With an Olive Branch - Royalty Free Clipart Picture"/>
          <p:cNvPicPr/>
          <p:nvPr/>
        </p:nvPicPr>
        <p:blipFill>
          <a:blip r:embed="rId3"/>
          <a:stretch/>
        </p:blipFill>
        <p:spPr>
          <a:xfrm>
            <a:off x="3300480" y="2000160"/>
            <a:ext cx="2543040" cy="2857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never a good war or a bad peace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 Franklin 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08:22Z</dcterms:created>
  <dc:creator>Vanessa Collier</dc:creator>
  <dc:description/>
  <dc:language>en-US</dc:language>
  <cp:lastModifiedBy>Vanessa Collier</cp:lastModifiedBy>
  <dcterms:modified xsi:type="dcterms:W3CDTF">2010-05-03T17:23:39Z</dcterms:modified>
  <cp:revision>6</cp:revision>
  <dc:subject/>
  <dc:title>Martin Luther King </dc:title>
</cp:coreProperties>
</file>